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AA4-EFB7-49EC-8991-96894941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853-9FF0-4352-9692-F39793DF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DF6-2A59-4A95-8F9E-E2CBA42C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194-3784-4C16-BD9D-94D26101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2B2B-1C16-42F3-AE32-0F3C143E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6FF8-225D-4A63-9FC9-DC700DD1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0C29-D3AF-4F73-9EA8-A64E8C04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C767-14DC-468D-8C5C-43A860BB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2CCA-4E10-4097-A434-23F9C57E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3EBF-4CED-4F80-9C69-0A74D860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0475-6835-407C-9097-C8827F7F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82E-E402-4B40-8EAC-080DD7A0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F618-3930-46A2-8476-41259E2D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BB3C-F733-437F-8708-7752C56D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4C11-B916-4F8D-A8B1-6535DE67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3326-89B2-4172-87BB-9FFDD071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7F86-933E-4B8E-8530-28FE0074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BC3E-B3D0-4148-9EFE-4AC959BE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66A30-7567-4C47-9882-CB313D1D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8DC31-1AEE-4C3B-AC4C-3E32BB31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F5DD5-AE04-4324-83CA-C00620F9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90B8-DCB9-40A6-8FEB-D1329A60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735-9A2B-4538-BF13-DD997623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9DF5-4659-4575-82FD-3491BF6C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2F93B-3F3B-48D8-A6C7-09BF6EAF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4B878-9D84-4FE3-AB03-9EDFED8D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CDEA3-4D80-4682-A436-6A69EFA4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D2996-FCD4-48D5-AF86-243CC09B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95216-CCFC-4BDC-953D-49538264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BF5C0-82F9-4C32-A7F2-F2A1C639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57337-4097-4E9E-A3B0-D285AC37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34655-4E8D-44DF-A54A-E9057EEA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DB094-7369-418D-9C50-153946B5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D75-B09F-4B32-A7DD-4CF0C72C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DFF35-43F4-42A8-A07C-C78E3492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4CBCF-036B-44BB-9B06-A186BCE6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39B70-ABF0-45B6-A1FB-DEB178F1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C1179-A816-4398-B61C-D1A32D22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D894C-53AD-4EA6-97F6-654CD0FD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60E11-1FA6-47AA-BEFB-276DA512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EC01D-390E-4760-BFD1-BC3EFE74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032E2-D4C6-48AE-9C5B-92DD0307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453F7-B3E0-4D8A-BC86-14B8820E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4784F-E4B3-451F-94B0-59BDACC0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6AA-BA05-4180-B8CB-DAA09DFC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2C6E4-C5E7-41D0-90A4-7A07B346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DC04B-759C-4C63-9D3C-293740D1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051B9-8EA2-4CC7-B499-25491C2E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3E356-43AB-4F49-B1E6-304F3AC6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56701-4880-4E02-9FA9-BCE5CD2D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2FA62-27D0-49EE-8862-A047EDE8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05CEF-B2F7-4E1F-BF19-97911571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E7989-9F34-4AAE-AB62-05C8201A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F2B9F-48CF-4EFA-AEB0-03102953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DBF34-F11E-40DE-AB31-2C7202D2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79E-1FD4-4726-9264-67F7C820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E08B5-F1C5-46FC-8209-696168B7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196-B83E-456F-9EA5-5258E86E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57B0-2980-431B-A3D0-E4686D61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8AE-547D-4784-BDC0-79F7FC93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B728-43BC-4A69-B671-345F978D7E2B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5E39-C5E8-4BD2-88F9-0764C0CEA586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217F-3BE4-4240-8F24-42D06334AC4D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41520" y="6235200"/>
            <a:ext cx="3805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A7AE-78A7-483B-A1B5-F1BC2C0FA4D0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9720" y="6235200"/>
            <a:ext cx="3803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B2B4-5374-401B-A61C-1EEB413D04A6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25080"/>
            <a:ext cx="7696440" cy="114300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bdfbc4"/>
              </a:gs>
            </a:gsLst>
            <a:lin ang="18900000"/>
          </a:gra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rbel"/>
              </a:rPr>
              <a:t>ТЕМА: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9120" y="1752480"/>
            <a:ext cx="7696440" cy="452592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bdfbc4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Bahnschrift SemiBold SemiConden"/>
              </a:rPr>
              <a:t>Дружба и конфликты</a:t>
            </a:r>
            <a:endParaRPr b="0" lang="en-US" sz="4800" spc="-1" strike="noStrike">
              <a:solidFill>
                <a:srgbClr val="262626"/>
              </a:solidFill>
              <a:latin typeface="Corbel"/>
            </a:endParaRPr>
          </a:p>
        </p:txBody>
      </p:sp>
      <p:pic>
        <p:nvPicPr>
          <p:cNvPr id="209" name="Рисунок 1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51055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93800" y="444240"/>
            <a:ext cx="3956400" cy="68580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bdfbc4"/>
              </a:gs>
            </a:gsLst>
            <a:lin ang="18900000"/>
          </a:gra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orbel"/>
              </a:rPr>
              <a:t>ЗАДАЧИ:</a:t>
            </a:r>
            <a:endParaRPr b="0" lang="en-US" sz="32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09120" y="1130400"/>
            <a:ext cx="8153640" cy="461016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bdfbc4"/>
              </a:gs>
            </a:gsLst>
            <a:lin ang="18900000"/>
          </a:gradFill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1.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Познакомиться с понятием «конфликт», «ссора»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2.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Узнать  о способах разрешения конфликтных ситуаций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3.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Научиться вести себя правильно при возникновении конфликтной ситуации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304920" y="50400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Ситуация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уроке физкультуры во время игры Маша нечаянно толкнула Катю. Катя упала, заплакала, обиделась на Машу.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2162160" y="3332160"/>
            <a:ext cx="42861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380880" y="648360"/>
            <a:ext cx="8610840" cy="33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Ситуация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ремя перемены Руслан и Миша одновременно захотели поиграть с одной и той же игрушкой. Стали вырывать её друг у друга из ру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1" descr=""/>
          <p:cNvPicPr/>
          <p:nvPr/>
        </p:nvPicPr>
        <p:blipFill>
          <a:blip r:embed="rId2"/>
          <a:stretch/>
        </p:blipFill>
        <p:spPr>
          <a:xfrm>
            <a:off x="2743200" y="3809880"/>
            <a:ext cx="29145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304920" y="661680"/>
            <a:ext cx="8381880" cy="283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Ситуация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стя нарисовал на листке портрет Юры и передал ему. Юра обиделся, порвал портрет на мелкие кусочки и бросил их на парту К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1" descr=""/>
          <p:cNvPicPr/>
          <p:nvPr/>
        </p:nvPicPr>
        <p:blipFill>
          <a:blip r:embed="rId2"/>
          <a:srcRect l="3851" t="0" r="5705" b="0"/>
          <a:stretch/>
        </p:blipFill>
        <p:spPr>
          <a:xfrm>
            <a:off x="1600200" y="3753000"/>
            <a:ext cx="3581280" cy="24285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" descr=""/>
          <p:cNvPicPr/>
          <p:nvPr/>
        </p:nvPicPr>
        <p:blipFill>
          <a:blip r:embed="rId3"/>
          <a:stretch/>
        </p:blipFill>
        <p:spPr>
          <a:xfrm>
            <a:off x="5867280" y="3733920"/>
            <a:ext cx="2438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533520" y="1981080"/>
            <a:ext cx="80010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304920" y="-360"/>
            <a:ext cx="40384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 flipH="1" flipV="1">
            <a:off x="4495320" y="-360"/>
            <a:ext cx="43434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533520" y="6172200"/>
            <a:ext cx="4038480" cy="7034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зывчив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4572000" y="6172200"/>
            <a:ext cx="396252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ботлив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33520" y="5486400"/>
            <a:ext cx="297180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ст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3505320" y="5486400"/>
            <a:ext cx="5029200" cy="703440"/>
          </a:xfrm>
          <a:prstGeom prst="rect">
            <a:avLst/>
          </a:prstGeom>
          <a:solidFill>
            <a:srgbClr val="738f97"/>
          </a:solidFill>
          <a:ln w="9360">
            <a:solidFill>
              <a:srgbClr val="738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ствен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4800600" y="4800600"/>
            <a:ext cx="3733920" cy="703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жлив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3200400" y="4114800"/>
            <a:ext cx="5334120" cy="642600"/>
          </a:xfrm>
          <a:prstGeom prst="rect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брожелатель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33520" y="4800600"/>
            <a:ext cx="4267080" cy="70344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рпелив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533520" y="3429000"/>
            <a:ext cx="4647960" cy="7034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скорыст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533520" y="4114800"/>
            <a:ext cx="2819160" cy="642600"/>
          </a:xfrm>
          <a:prstGeom prst="rect">
            <a:avLst/>
          </a:prstGeom>
          <a:solidFill>
            <a:srgbClr val="66ffcc"/>
          </a:solidFill>
          <a:ln w="9360">
            <a:solidFill>
              <a:srgbClr val="bdfb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5105520" y="3505320"/>
            <a:ext cx="342900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дан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33520" y="2743200"/>
            <a:ext cx="3657600" cy="703440"/>
          </a:xfrm>
          <a:prstGeom prst="rect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ва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533520" y="1981080"/>
            <a:ext cx="4038480" cy="70344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2"/>
          <p:cNvSpPr/>
          <p:nvPr/>
        </p:nvSpPr>
        <p:spPr>
          <a:xfrm>
            <a:off x="4419720" y="0"/>
            <a:ext cx="4419360" cy="19810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3"/>
          <p:cNvSpPr/>
          <p:nvPr/>
        </p:nvSpPr>
        <p:spPr>
          <a:xfrm flipH="1">
            <a:off x="304920" y="0"/>
            <a:ext cx="4114800" cy="19810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4114800" y="2743200"/>
            <a:ext cx="4419720" cy="703440"/>
          </a:xfrm>
          <a:prstGeom prst="rect">
            <a:avLst/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мение прощ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4114800" y="1981080"/>
            <a:ext cx="4419720" cy="703440"/>
          </a:xfrm>
          <a:prstGeom prst="rect">
            <a:avLst/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увство юм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7" descr="13602097"/>
          <p:cNvPicPr/>
          <p:nvPr/>
        </p:nvPicPr>
        <p:blipFill>
          <a:blip r:embed="rId1"/>
          <a:stretch/>
        </p:blipFill>
        <p:spPr>
          <a:xfrm>
            <a:off x="2438280" y="5181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13325475"/>
          <p:cNvPicPr/>
          <p:nvPr/>
        </p:nvPicPr>
        <p:blipFill>
          <a:blip r:embed="rId2"/>
          <a:stretch/>
        </p:blipFill>
        <p:spPr>
          <a:xfrm>
            <a:off x="457200" y="1523880"/>
            <a:ext cx="1660680" cy="1722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36700378963723"/>
          <p:cNvPicPr/>
          <p:nvPr/>
        </p:nvPicPr>
        <p:blipFill>
          <a:blip r:embed="rId3"/>
          <a:stretch/>
        </p:blipFill>
        <p:spPr>
          <a:xfrm>
            <a:off x="-2514600" y="-304920"/>
            <a:ext cx="14287680" cy="85726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4"/>
          <p:cNvSpPr/>
          <p:nvPr/>
        </p:nvSpPr>
        <p:spPr>
          <a:xfrm>
            <a:off x="304920" y="1828800"/>
            <a:ext cx="19047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2666880" y="2666880"/>
            <a:ext cx="1752840" cy="1524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572000" y="1447920"/>
            <a:ext cx="19051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086600" y="2971800"/>
            <a:ext cx="18288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52280" y="3962520"/>
            <a:ext cx="1905120" cy="1828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2362320" y="5181480"/>
            <a:ext cx="2209680" cy="1828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724280" y="3352680"/>
            <a:ext cx="1981440" cy="1676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6858000" y="5181480"/>
            <a:ext cx="2057400" cy="152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9" descr="13602097"/>
          <p:cNvPicPr/>
          <p:nvPr/>
        </p:nvPicPr>
        <p:blipFill>
          <a:blip r:embed="rId4"/>
          <a:stretch/>
        </p:blipFill>
        <p:spPr>
          <a:xfrm>
            <a:off x="2514600" y="5029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3" descr="13325475"/>
          <p:cNvPicPr/>
          <p:nvPr/>
        </p:nvPicPr>
        <p:blipFill>
          <a:blip r:embed="rId5"/>
          <a:stretch/>
        </p:blipFill>
        <p:spPr>
          <a:xfrm>
            <a:off x="457200" y="1752480"/>
            <a:ext cx="1616040" cy="1676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5" descr="0_12a649_758e692a_orig"/>
          <p:cNvPicPr/>
          <p:nvPr/>
        </p:nvPicPr>
        <p:blipFill>
          <a:blip r:embed="rId6"/>
          <a:stretch/>
        </p:blipFill>
        <p:spPr>
          <a:xfrm>
            <a:off x="2743200" y="2590920"/>
            <a:ext cx="1679400" cy="1639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7" descr="0_6ce83_74037ec_orig"/>
          <p:cNvPicPr/>
          <p:nvPr/>
        </p:nvPicPr>
        <p:blipFill>
          <a:blip r:embed="rId7"/>
          <a:stretch/>
        </p:blipFill>
        <p:spPr>
          <a:xfrm>
            <a:off x="4800600" y="3276720"/>
            <a:ext cx="1535040" cy="1752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9" descr="11038868"/>
          <p:cNvPicPr/>
          <p:nvPr/>
        </p:nvPicPr>
        <p:blipFill>
          <a:blip r:embed="rId8"/>
          <a:stretch/>
        </p:blipFill>
        <p:spPr>
          <a:xfrm>
            <a:off x="4572000" y="1447920"/>
            <a:ext cx="1905120" cy="1587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1" descr="0_12bc14_a960d191_orig"/>
          <p:cNvPicPr/>
          <p:nvPr/>
        </p:nvPicPr>
        <p:blipFill>
          <a:blip r:embed="rId9"/>
          <a:stretch/>
        </p:blipFill>
        <p:spPr>
          <a:xfrm>
            <a:off x="380880" y="3962520"/>
            <a:ext cx="1386000" cy="1828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3" descr="Red-Roses-and-Green-Leaves-PNG-Clipart"/>
          <p:cNvPicPr/>
          <p:nvPr/>
        </p:nvPicPr>
        <p:blipFill>
          <a:blip r:embed="rId10"/>
          <a:stretch/>
        </p:blipFill>
        <p:spPr>
          <a:xfrm>
            <a:off x="7086600" y="3048120"/>
            <a:ext cx="1752480" cy="1751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5" descr="13173982"/>
          <p:cNvPicPr/>
          <p:nvPr/>
        </p:nvPicPr>
        <p:blipFill>
          <a:blip r:embed="rId11"/>
          <a:stretch/>
        </p:blipFill>
        <p:spPr>
          <a:xfrm>
            <a:off x="6934320" y="5275440"/>
            <a:ext cx="18288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762120"/>
          </a:xfrm>
          <a:prstGeom prst="rect">
            <a:avLst/>
          </a:prstGeom>
          <a:blipFill rotWithShape="0">
            <a:blip r:embed="rId2"/>
            <a:stretch/>
          </a:blip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 ПОМИРИТЬСЯ С ДРУГОМ:</a:t>
            </a:r>
            <a:endParaRPr b="0" lang="en-US" sz="32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6320" y="1294920"/>
            <a:ext cx="8686800" cy="533412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Поговорите. Попытайся понять почему произошла ссора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 marL="609480" indent="-609480"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Встань на сторону друга, увидь ситуацию с его стороны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 marL="609480" indent="-609480"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Скажи доброе слово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 marL="609480" indent="-609480"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Сделай сюрприз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 marL="609480" indent="-609480"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Позови друга на прогулку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90720"/>
          </a:xfrm>
          <a:prstGeom prst="rect">
            <a:avLst/>
          </a:prstGeom>
          <a:blipFill rotWithShape="0">
            <a:blip r:embed="rId1"/>
            <a:stretch/>
          </a:blip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orbel"/>
              </a:rPr>
              <a:t>СПАСИБО ЗА ВНИМАНИЕ!!!!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</p:txBody>
      </p:sp>
      <p:pic>
        <p:nvPicPr>
          <p:cNvPr id="262" name="Рисунок 2" descr=""/>
          <p:cNvPicPr/>
          <p:nvPr/>
        </p:nvPicPr>
        <p:blipFill>
          <a:blip r:embed="rId2"/>
          <a:stretch/>
        </p:blipFill>
        <p:spPr>
          <a:xfrm>
            <a:off x="2514600" y="1676520"/>
            <a:ext cx="485136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ся Стоянова</dc:creator>
  <dc:description/>
  <dc:language>en-US</dc:language>
  <cp:lastModifiedBy>Alesya Stoyanova</cp:lastModifiedBy>
  <dcterms:modified xsi:type="dcterms:W3CDTF">2020-05-12T11:13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